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gif" ContentType="image/gif"/>
  <Override PartName="/ppt/media/image10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CA115-12B0-4DCE-8B92-C481E7B84B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78B3C-E0BA-468C-9C68-94F4A041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C8EE82-8664-4A48-A338-80142809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1FF0E0-054D-49CC-8370-349F4B37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61DBCC-8A02-49A5-9E64-BB43FF11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A08A5C-A679-442F-8237-AACF83AE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34DA15-5B69-4B25-86BB-B57B6093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C9EDB1-F779-4C55-BA02-FA25FDB1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04F124-2415-4D1D-B5E6-69550CBB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210274-A19B-40EE-A89B-A3010CDA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432757-CA93-4FE7-A99A-98C0F26D87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B5476-33C9-467A-B8DF-DFCB0AC95B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FEDBA-E21B-45D2-B816-A02A98AD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310C1-9524-4453-AF05-D2E47099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EADAB-9B49-474D-897E-EA683DB2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CABE1-4E85-44A0-9C07-6F849EE7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4608E-8A79-41A0-BFFB-491DC78F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E0686-A048-4A44-A26E-3E71937B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682D3-56BE-423A-A99E-C091AA4B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E36F9-4AEF-47B6-BD23-C1F47FC2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6640D-D333-4A64-BB56-5E0C10E9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2BEB4-F343-4CA4-9B00-D926C799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30594-01D3-46E2-A3F3-69D5A55F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7A9B9-4817-4417-BBFC-DEB1D1B583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2E079-CE0F-4A86-92D6-96E832AED6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EA9FCD-7BDF-4981-8240-013F60441B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E626D0-E8E1-47CA-BB86-9EAADE6F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FA9106-6316-4A8E-BCC4-7CBEC67A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8AF629-BF2E-455C-8444-3A7C8D7E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90CA5F-09E9-4F3B-94C7-192C6C30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133931-D419-4A19-A18F-8024859D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A93755-91B8-41AE-962D-C7B87483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C36691-FB27-4D45-8385-9AB94830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EDD24F-A200-4860-9233-E9BC49B9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83F31-2459-4B99-B765-13476AB3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94507A-A99E-48D2-943D-D03AA9D4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2DB579-C2B8-47FF-9AE3-667FEF9C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DFB1A9-15CF-49F9-8A32-E6C158D822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C1501-8EC1-435B-8F6B-5ED835A783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EADBA6-1735-41A3-A36E-21D8AE58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06F9A1-EBA4-44ED-A679-35572465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75CB8-AB08-4A87-A257-04D80274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7D16B-BF97-48C8-87F3-DEB17318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BF333-7D1D-461A-8C8C-B166F431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E70A0-853D-47AD-AF8F-B12747CB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1D788-8D2D-4367-8E58-C04EA35B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288969-BCB7-4EF8-90DC-1412A1A0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5EBAA2-311A-4151-B5D5-36CCF07B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A80856-AF12-4187-BF78-D002AA5F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6E7E2-F682-4084-A1AA-7A7D29AA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2DD81-DE0D-4FF4-8FA4-2996B7FCAF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AF916-E033-4907-8F82-04D02E91BA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9B007-B9C1-45D8-AA50-B076224B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A79FB-2B2C-4AA2-8071-7BB6AAFF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92389-FA0B-4204-985E-E48FB3B5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98D8B-04FD-47AC-B0A8-06027F6A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B155E-CED3-4178-95FF-5FDD8D0D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CD485-BAF5-4736-B2E6-DCAF9532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EF822-D54A-4B38-89DD-740A477E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99F2B-0F43-4217-A2D3-DC97C6F6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842DC-3A11-44FF-9F5C-567D502B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B636C-5EB6-42E3-BB6E-8C8FFFC5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FE49E-B14C-44D7-9154-40001C05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DF3D7-362E-4920-A2A3-9F82CCF612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3E4B0-2F07-4885-A710-C15776F0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EE364-4F56-4C52-9A97-A25209AD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2D4DA-A5F7-43BF-B37B-44AD510A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DF945-E205-4C77-8622-FBEE5977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C986B-BBC1-4350-BA17-342BA596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6FD5C-0126-4468-AEE4-D0AA6DF2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62182-CDA9-48E7-9E6D-B9CDC66F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72AA1-346D-42BA-A33A-F5C7ECC9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1C96B-AA33-4BC4-AB5F-EF4774D5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4AD8F-6714-4490-BA7C-BBFE9EE8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CCD0F-2FFC-4793-8112-24A6FB65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AD328-D3C8-42A5-92E1-45319D77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BDFDF-EEF9-4027-B193-22C45BB8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08C8C-445F-49ED-82A1-5A7D8F8E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C46AC-37DF-4812-AA6C-5B17D49A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CC212-84AF-46D3-B025-DD1D76FE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53E0E-CACA-4871-AB0E-7C5B6227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2E64E-B27F-4A69-87CB-6219EF73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34B40-5C13-42D4-9434-4F7A4792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00C24-076F-4B02-85AD-61D06334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C5C6A-2659-4E6C-B1C9-637F89EA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599B0-2AC1-4345-ADD7-66F90487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575D7-F18E-4E1D-B9EA-27824262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7B0CE-6E2B-42E0-AA18-84519A6E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88B23-90D3-4C08-9404-A672D1B7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75141-2DC3-410B-95CC-04D549C5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352C5-7BD8-44F9-A03D-B10A042E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B6C37-FDEE-43F9-A18D-38C7438A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B4CEC-52DC-44B1-83A5-39F27D38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C9DFD-01E4-44CD-B722-F469A4A9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92ED0-7C54-4612-A626-6C29F038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12D22-DA66-4DF0-AC5A-0F9F89EF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6C29A-F01F-498F-B825-98DEF23C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2004D-A9F1-46E9-A9A3-E88EEEA3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D12AC-4418-483E-B4A8-0133F2B4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1D982-0B4B-4511-B13B-145DF1A6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5C82A-7105-4DEA-813C-6974D67F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52BF5-F04C-40DE-A8D3-DD4CADEC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69478-A27E-4FA8-8312-C5C39A05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926F1-EF76-4FB8-BBE8-0D5CDBCE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300F3-9E97-4646-899C-41A215FB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9A62D-17AB-4E78-B894-8A751A34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A5776-AB4C-4553-8FE2-6CB433AF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30831-3BED-4759-A017-4FB7CD02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2B54F-751B-4B4F-984F-6B305037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3A999-C9BE-48CF-A449-BE437E39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AFAA1-3E1B-4502-B910-EC35801F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E705F-61D0-439E-B513-2276B0D7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D4801-E3B6-4F23-BFC2-C0DCDD50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91573E-0EA9-4F63-915C-2C60994B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5B297-8E05-4666-8B13-A0539EDB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317D6-1F93-4D92-B624-062769F8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18937-7AFD-4FE5-9504-32201F6D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84BB8-C5F0-4934-87B2-27EACD94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5E0C9-0A68-4F3B-9F11-C853BBFD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B3C39E-3127-406F-8400-9E2DCA90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46D65-7D9C-4009-B642-5923DC64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10910B-4D1F-4A67-BFA1-46E3630F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77EA30-2058-4428-9E72-CE59EBA2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8A507-6461-47EB-9191-9D930117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DC92C-1F4A-4196-902F-D1DED0C3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A00A7-5368-460D-969F-AC7B7E7B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0403C8-E9A3-4168-B41A-499EA3F1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D9E37B-F65B-449F-B189-D1942CA8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F0EC1-2DD8-42B4-ADD8-9627DD2A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AC0275-ADA7-4C9C-9E97-B715F59A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D558D7-6FCB-4283-B519-F3E441E6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F71848-DC76-43C4-8321-9C8CA9D4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264BE3-68AF-441D-BCEF-AAE40385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C42BEA-6E01-4CAD-A98B-F99B9D80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63327-68C5-4BDF-8A07-14F4627F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97C3D2-D705-4487-A8E1-94F2EAA2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0CAEE1-D9CA-449C-9529-4EBD3269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56A2FC-6C73-45B0-BD84-1CDDD881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FB07CC-F27B-4285-BD97-2DBE5155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C10A90-2177-40FC-AA1A-64BCA442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5DE7E7-89E5-47C6-9B5B-49208B47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A44492-C71A-4501-A883-0BAA613D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2E577B-2B94-4EDC-947F-B1858B17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E0733A-72BE-41E6-98DB-748230E6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BC2407-946A-4C35-95C3-292A7545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AA26F-5CE2-4513-B036-73AB0072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FBCF7D-3DBC-4964-8479-19F09F75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0AB461-072E-46EE-A2B5-914B4961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FC34E5-BE0B-4853-814C-470AD3C3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F1B79A-AC05-4927-AEE7-10B81D95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242DE-9BED-474A-BA06-7D567719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2467C0-B990-4697-B651-6FAA9824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B606F-4FBE-4B54-A5CB-DB43C2D2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4B82E7-720B-45AB-A8C8-F2187FC8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666816-8BE0-40EA-B531-B65EAB82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62294C-821A-420E-8276-DDEAB894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9D90F-528A-46C7-A270-47BBF597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1871E-773D-4745-91A7-E0EBE402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451AF3-2996-4524-BFDA-BCAC925C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495CBD-BE36-474E-A9DC-57BD8733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789821-99CE-4DD6-9994-3FD83DF5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E7140A-5CD8-4397-90BE-3EAF56E9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EC58B1-276B-4CBD-A364-713592DD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26F84A-E6A5-47A5-96D3-4292183B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EB9714-CE09-4788-917F-145EBD6E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B16432-C2B7-4DB7-9D5F-62A74EAA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81FAB2-54D4-40F3-B075-782E5CC4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20A303-1382-4CE3-89C1-DD1B08964B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81406A-D5EC-4D22-A0E6-1723BDC3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11BBC7-B8B0-4477-8427-0EEBC0FE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8BCC84-2D03-4AEC-BCDA-21E95557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00E664-B47C-4A37-BF8F-5F7C0AFE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8BFA9E-C5BE-4DB7-983C-40EDC1EC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9EB922-5082-48A3-B73D-76F3F661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249E69-98C8-42D7-9606-F73E086B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46FEF6-307E-4248-9ACC-CA698CAE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D6402A-A021-4DE6-B29F-120F3058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4327DB-3BE8-48D8-BD7F-049381E0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7D5FE6-D499-4CCE-8201-0DBF1A3C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551BB7-8365-41D0-83A8-52704415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6C5424-EA08-4E35-BB64-6E3EE632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27B6DC-D69C-476E-A082-DC76C40A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E3BBAE-882C-41DD-8D13-EB6B13FA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962BAA-A6D8-478A-82BD-5962B727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36B3D8-20B9-4677-82BC-4D2860A0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E51E63-1E78-4B63-849B-0D16A1C7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FD4EC1-74DF-43F7-88D9-B7A964CE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C2CD23-A6EC-4971-83BA-52456652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AFEBC2-3CF8-46A5-A56C-E49F8012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C09451-3B7B-4116-985F-FD60C0AF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9D1E09-8E1E-4E8E-B125-B73CC597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0DFFC7-2825-4E04-97BF-E2CFF76C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56E7FE-B0FB-4024-A20D-F552F3EF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387DCC-6F01-4F75-B25A-DEA90488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05627F-80D3-45F1-A784-01CAED66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5B73E4-275C-4766-8DB0-CFB735B1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6970BA-E8BF-4B85-BAE5-239628CF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3F5CEE-E384-46FA-BF12-EC30E557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B8FB48-9772-4C23-9912-3DB0AFE4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8D9780-9625-4D7B-83CF-875C9294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93D079-0379-4948-94FA-4BD1ED4C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809AB0-50FF-43CB-A683-304F7016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7297DD-65B7-483F-BB02-38A41B52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D2B836-ABBD-4FAF-A08A-CB3BCE38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55093C-90D0-4368-93CB-50A9B6FA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8D8DFE-BA16-4552-AE7D-8DDB14F2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7517B3-7A7F-4BE7-A6B6-2811624E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CFD968-1EFD-4E19-88B2-218925FF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C8BADE-EA13-405C-B555-3E9EC55A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5AFE89-B226-4224-A46B-F0DE22A6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89EE28-4F5E-4DCA-965A-84179A73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083C8-FC80-4C1E-91FC-DF3FAD64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B6203F-DD5B-4CC5-8C8D-C7AEEADF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054822-F208-482B-91EA-DAB2A324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2C7451-2AEB-42A5-A0D5-2B15E2C1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074AD5-0008-45EA-9F29-6CA71BC3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E1F88E-B1DA-42BF-BA45-BEA3D481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FD7DDD-B337-4626-83AB-C478F449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DC9658-3F63-45D7-AB78-98DDC2B9A2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44B09-73AA-4B38-9FA3-888D567FD9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E2C92-EE5B-4F5F-9EB6-34EDE810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15A88-5D95-4621-AE00-D4970291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CEFC6-1A6E-433E-9FA7-15A11D23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7DFC1-FA65-488F-A756-37E2E515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5FD38-CCF6-4E41-AFD5-74E4B514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9A1AD-386D-4A4C-AD15-2D11D557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1C8F7-41A7-4D22-BEB3-F959FC2A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32CAD-00BA-4E1F-8766-7AE01D05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D503D-4414-4762-9887-692D5D15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9121B-2EF0-4868-BDB9-35DEA7A0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1D3D5-A0CE-42D8-84AC-C97CEE26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805D0-BFDF-441A-8D70-E4090829AF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BEB50-5CC3-4D8B-B093-B1148ACECC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4AD27-3BC6-4B30-AF82-0DA86288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3335BB-267C-45AA-907F-883696A1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BF5441-8170-47C4-AE6D-2A8D48D5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2DA093-E9A7-4449-B086-7F8ABBB7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C34F7E-9EE1-49E7-94B8-4838CB32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478044-B610-4AD1-B222-37CFBE96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FA4166-E8D3-469A-A895-0DB54A86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A0F6E6-8706-4220-A160-EDDC8773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EB8028-0EBC-4B29-9234-4E789AE5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1DE599-F353-4794-AB7D-C4D663AC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FC0D86-8FDC-4FF5-8546-F01089CC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82763-D8B3-4E2A-8E74-45C90A10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D96EEB-048D-4CE2-B40F-3EEFEF2039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330FFA-AFDB-448C-8288-16DF21E59B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88D1A6-2E12-4A6D-8A1A-468B1793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C58FAF-F01B-4333-B9A9-0DC1D874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9810D8-ED33-44A0-BBFF-2B3F96C5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EB4B45-91C2-4450-9A3B-D1ABD75E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361651-134D-4DAF-A538-6C5EE8DE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8D1B25-FF37-4923-948E-F38DEDFC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D7C439-57A0-4BA3-B365-D544DF38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2D450C-9FC6-448F-8AAA-7D4C71B2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EB539-8FC2-4A7D-AF94-6264402D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271FAD-B65D-44D6-B178-DA456377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552DAD-B2D6-43F3-93D2-61DE7755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99D2BD-FC5F-40BE-BCFF-798B36652A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056D5-FF5F-4BD8-9910-E72FB6FAAC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DFA91-D7AF-402D-B34D-8B952A5A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93162-B230-4099-AFC8-B97A9342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2773A-323A-45A1-A653-2934F5BE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A5DC3-9823-48FF-BF2D-C64434C8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9D999-C499-4C1B-8BBB-DB93B347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FD925-E3CD-4E3A-BA13-86587729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63D36-B4DF-4845-89BF-3EDA3FF5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62C3F-C1D5-4BD6-864D-BF1CAC6E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89C41-D95F-4184-80CF-F0AB677E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503D3-2802-489E-ABE0-993AC263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2FE2A-8C79-4A39-AF0A-017C1412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4CBD1-42F4-401F-96D8-D83FF4B81E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A775A-59DC-44F8-8262-86EDC6C707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35EE94-9E15-4C6B-8E30-65C824A0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B235B5-90F0-466A-AA11-37804BC8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DAC8DF-ECA9-4867-9A4D-4D33DB0E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58255F-7375-4E68-9E71-C51CEC2E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F0778-E0D7-4DCD-A3CD-B5CE6274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2F6A30-8EE6-40B3-A193-570B6B4B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82D448-D7D0-4A7B-A2B4-B2B5268D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0EB053-36CF-47C1-9C4D-7BA6ABC7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012E7E-8474-41C5-AB76-E37FE88C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2B4FC-C2C0-4565-824C-93011113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E830B5-8818-4C24-BCD4-26B6E783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8CF1B-A6D7-48BE-876D-77D7502C6B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9DF58A-B843-44C3-BE3E-F87FCBD052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3427F3-E5B8-4676-B637-BC9957DD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7D7DA2-6E6F-4B18-B609-79A7C901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2EDF-AF87-4074-AA88-8773768C0E2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4DCA-5D38-4699-89C6-957613DF99B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A9C3-4DA8-408B-AFEB-C01E0CFC850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0445-7393-407B-8885-2FE472D9CD3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5756-DEA5-41FA-AF52-9B2F1FF0962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ED0E-B1FC-4F7E-8FE9-98F542B9079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F1C3-F23C-47FF-AC87-3575F50946D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861F-3797-4028-B795-49B2955BA14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562E-E66F-4A97-A0AA-BBAD9154C19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E466-B514-49C0-B1AD-3DB73C34D91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992D-26D6-4944-A593-275DDC79F6C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F3EA-E1F7-40C6-8CB4-4741F760C34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E741-3348-4288-92EF-628B4DC4AA3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7EEA-17CF-4CAD-AB84-9FD5106790E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8B61-9B9F-436C-8741-8896825C5C2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6423-C959-4188-A521-41593A80CB4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A7CB-B287-46F9-8D29-B79C3EF9714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A278-56D4-4CD8-9CCC-4B6F0980DB4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9960-BB00-445E-92AF-CA0F7204E09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679D-A041-4E9F-BEE4-CA7907F252A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A090-5CA2-451C-96DF-83C7676D4A6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DB0A-9773-4442-8574-0A3187CEF5F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A451-0DC4-40C6-950D-40E44A7D851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E8A6-38CF-4329-8A5B-F6F4ABA33C2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jpeg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032280" y="2716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角 的 度 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929120" cy="360"/>
            <a:chOff x="2284560" y="2448000"/>
            <a:chExt cx="492912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9291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929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171440" y="1744560"/>
            <a:ext cx="748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角的度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Rectangle 21"/>
          <p:cNvSpPr/>
          <p:nvPr/>
        </p:nvSpPr>
        <p:spPr>
          <a:xfrm>
            <a:off x="466560" y="117360"/>
            <a:ext cx="310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3"/>
          <p:cNvSpPr/>
          <p:nvPr/>
        </p:nvSpPr>
        <p:spPr>
          <a:xfrm>
            <a:off x="365040" y="885960"/>
            <a:ext cx="8643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下面两个角哪个大些？大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Group 31"/>
          <p:cNvGrpSpPr/>
          <p:nvPr/>
        </p:nvGrpSpPr>
        <p:grpSpPr>
          <a:xfrm>
            <a:off x="1136160" y="1857240"/>
            <a:ext cx="3146760" cy="1505160"/>
            <a:chOff x="1136160" y="1857240"/>
            <a:chExt cx="3146760" cy="1505160"/>
          </a:xfrm>
        </p:grpSpPr>
        <p:grpSp>
          <p:nvGrpSpPr>
            <p:cNvPr id="1012" name="Group 28"/>
            <p:cNvGrpSpPr/>
            <p:nvPr/>
          </p:nvGrpSpPr>
          <p:grpSpPr>
            <a:xfrm>
              <a:off x="1397880" y="1857240"/>
              <a:ext cx="2885040" cy="1505160"/>
              <a:chOff x="1397880" y="1857240"/>
              <a:chExt cx="2885040" cy="1505160"/>
            </a:xfrm>
          </p:grpSpPr>
          <p:grpSp>
            <p:nvGrpSpPr>
              <p:cNvPr id="1013" name="Group 16"/>
              <p:cNvGrpSpPr/>
              <p:nvPr/>
            </p:nvGrpSpPr>
            <p:grpSpPr>
              <a:xfrm>
                <a:off x="2698560" y="1857240"/>
                <a:ext cx="1584360" cy="1505160"/>
                <a:chOff x="2698560" y="1857240"/>
                <a:chExt cx="1584360" cy="1505160"/>
              </a:xfrm>
            </p:grpSpPr>
            <p:grpSp>
              <p:nvGrpSpPr>
                <p:cNvPr id="1014" name="Group 17"/>
                <p:cNvGrpSpPr/>
                <p:nvPr/>
              </p:nvGrpSpPr>
              <p:grpSpPr>
                <a:xfrm>
                  <a:off x="2698560" y="1857240"/>
                  <a:ext cx="1584360" cy="1505160"/>
                  <a:chOff x="2698560" y="1857240"/>
                  <a:chExt cx="1584360" cy="1505160"/>
                </a:xfrm>
              </p:grpSpPr>
              <p:grpSp>
                <p:nvGrpSpPr>
                  <p:cNvPr id="1015" name=""/>
                  <p:cNvGrpSpPr/>
                  <p:nvPr/>
                </p:nvGrpSpPr>
                <p:grpSpPr>
                  <a:xfrm>
                    <a:off x="2698560" y="1857240"/>
                    <a:ext cx="730080" cy="1504800"/>
                    <a:chOff x="2698560" y="1857240"/>
                    <a:chExt cx="730080" cy="1504800"/>
                  </a:xfrm>
                </p:grpSpPr>
                <p:sp>
                  <p:nvSpPr>
                    <p:cNvPr id="1016" name="Line 18"/>
                    <p:cNvSpPr/>
                    <p:nvPr/>
                  </p:nvSpPr>
                  <p:spPr>
                    <a:xfrm flipV="1">
                      <a:off x="2698560" y="1857240"/>
                      <a:ext cx="730080" cy="15048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7" name=""/>
                    <p:cNvSpPr txBox="1"/>
                    <p:nvPr/>
                  </p:nvSpPr>
                  <p:spPr>
                    <a:xfrm rot="10800000">
                      <a:off x="2698560" y="1857240"/>
                      <a:ext cx="730080" cy="150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2698560" y="3362040"/>
                    <a:ext cx="1584360" cy="360"/>
                    <a:chOff x="2698560" y="3362040"/>
                    <a:chExt cx="1584360" cy="360"/>
                  </a:xfrm>
                </p:grpSpPr>
                <p:sp>
                  <p:nvSpPr>
                    <p:cNvPr id="1019" name="Line 19"/>
                    <p:cNvSpPr/>
                    <p:nvPr/>
                  </p:nvSpPr>
                  <p:spPr>
                    <a:xfrm>
                      <a:off x="2698560" y="3362040"/>
                      <a:ext cx="158436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round/>
                      <a:headEnd len="med" type="oval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0" name=""/>
                    <p:cNvSpPr txBox="1"/>
                    <p:nvPr/>
                  </p:nvSpPr>
                  <p:spPr>
                    <a:xfrm>
                      <a:off x="2698560" y="3362040"/>
                      <a:ext cx="15843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21" name="Arc 20"/>
                <p:cNvSpPr/>
                <p:nvPr/>
              </p:nvSpPr>
              <p:spPr>
                <a:xfrm>
                  <a:off x="2857320" y="3071520"/>
                  <a:ext cx="130320" cy="29052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Rectangle 21"/>
              <p:cNvSpPr/>
              <p:nvPr/>
            </p:nvSpPr>
            <p:spPr>
              <a:xfrm>
                <a:off x="1397880" y="2971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30"/>
            <p:cNvGrpSpPr/>
            <p:nvPr/>
          </p:nvGrpSpPr>
          <p:grpSpPr>
            <a:xfrm>
              <a:off x="1136160" y="2736360"/>
              <a:ext cx="2108880" cy="602280"/>
              <a:chOff x="1136160" y="2736360"/>
              <a:chExt cx="2108880" cy="602280"/>
            </a:xfrm>
          </p:grpSpPr>
          <p:sp>
            <p:nvSpPr>
              <p:cNvPr id="1024" name="Arc 26"/>
              <p:cNvSpPr/>
              <p:nvPr/>
            </p:nvSpPr>
            <p:spPr>
              <a:xfrm>
                <a:off x="1355760" y="3122640"/>
                <a:ext cx="72720" cy="21564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29"/>
              <p:cNvGrpSpPr/>
              <p:nvPr/>
            </p:nvGrpSpPr>
            <p:grpSpPr>
              <a:xfrm>
                <a:off x="1136160" y="2736360"/>
                <a:ext cx="2108880" cy="602280"/>
                <a:chOff x="1136160" y="2736360"/>
                <a:chExt cx="2108880" cy="602280"/>
              </a:xfrm>
            </p:grpSpPr>
            <p:grpSp>
              <p:nvGrpSpPr>
                <p:cNvPr id="1026" name=""/>
                <p:cNvGrpSpPr/>
                <p:nvPr/>
              </p:nvGrpSpPr>
              <p:grpSpPr>
                <a:xfrm>
                  <a:off x="1136160" y="2736360"/>
                  <a:ext cx="600480" cy="601560"/>
                  <a:chOff x="1136160" y="2736360"/>
                  <a:chExt cx="600480" cy="601560"/>
                </a:xfrm>
              </p:grpSpPr>
              <p:sp>
                <p:nvSpPr>
                  <p:cNvPr id="1027" name="Line 24"/>
                  <p:cNvSpPr/>
                  <p:nvPr/>
                </p:nvSpPr>
                <p:spPr>
                  <a:xfrm flipV="1">
                    <a:off x="1136520" y="2736360"/>
                    <a:ext cx="600120" cy="6015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 txBox="1"/>
                  <p:nvPr/>
                </p:nvSpPr>
                <p:spPr>
                  <a:xfrm rot="10800000">
                    <a:off x="1136160" y="2736360"/>
                    <a:ext cx="600120" cy="601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"/>
                <p:cNvGrpSpPr/>
                <p:nvPr/>
              </p:nvGrpSpPr>
              <p:grpSpPr>
                <a:xfrm>
                  <a:off x="1136520" y="3338280"/>
                  <a:ext cx="720720" cy="360"/>
                  <a:chOff x="1136520" y="3338280"/>
                  <a:chExt cx="720720" cy="360"/>
                </a:xfrm>
              </p:grpSpPr>
              <p:sp>
                <p:nvSpPr>
                  <p:cNvPr id="1030" name="Line 25"/>
                  <p:cNvSpPr/>
                  <p:nvPr/>
                </p:nvSpPr>
                <p:spPr>
                  <a:xfrm>
                    <a:off x="1136520" y="3338280"/>
                    <a:ext cx="7207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round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 txBox="1"/>
                  <p:nvPr/>
                </p:nvSpPr>
                <p:spPr>
                  <a:xfrm>
                    <a:off x="1136520" y="3338280"/>
                    <a:ext cx="720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2" name="Rectangle 27"/>
                <p:cNvSpPr/>
                <p:nvPr/>
              </p:nvSpPr>
              <p:spPr>
                <a:xfrm>
                  <a:off x="2937960" y="290016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3" name="组合 6"/>
          <p:cNvGrpSpPr/>
          <p:nvPr/>
        </p:nvGrpSpPr>
        <p:grpSpPr>
          <a:xfrm>
            <a:off x="5829120" y="1856880"/>
            <a:ext cx="1598400" cy="1554480"/>
            <a:chOff x="5829120" y="1856880"/>
            <a:chExt cx="1598400" cy="1554480"/>
          </a:xfrm>
        </p:grpSpPr>
        <p:grpSp>
          <p:nvGrpSpPr>
            <p:cNvPr id="1034" name="组合 4"/>
            <p:cNvGrpSpPr/>
            <p:nvPr/>
          </p:nvGrpSpPr>
          <p:grpSpPr>
            <a:xfrm>
              <a:off x="5829120" y="2786040"/>
              <a:ext cx="1598400" cy="600840"/>
              <a:chOff x="5829120" y="2786040"/>
              <a:chExt cx="1598400" cy="600840"/>
            </a:xfrm>
          </p:grpSpPr>
          <p:grpSp>
            <p:nvGrpSpPr>
              <p:cNvPr id="1035" name=""/>
              <p:cNvGrpSpPr/>
              <p:nvPr/>
            </p:nvGrpSpPr>
            <p:grpSpPr>
              <a:xfrm>
                <a:off x="5844960" y="3357360"/>
                <a:ext cx="1582560" cy="360"/>
                <a:chOff x="5844960" y="3357360"/>
                <a:chExt cx="1582560" cy="360"/>
              </a:xfrm>
            </p:grpSpPr>
            <p:sp>
              <p:nvSpPr>
                <p:cNvPr id="1036" name="Line 19"/>
                <p:cNvSpPr/>
                <p:nvPr/>
              </p:nvSpPr>
              <p:spPr>
                <a:xfrm>
                  <a:off x="5844960" y="3357360"/>
                  <a:ext cx="15825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 txBox="1"/>
                <p:nvPr/>
              </p:nvSpPr>
              <p:spPr>
                <a:xfrm>
                  <a:off x="5844960" y="3357360"/>
                  <a:ext cx="158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8" name="Arc 20"/>
              <p:cNvSpPr/>
              <p:nvPr/>
            </p:nvSpPr>
            <p:spPr>
              <a:xfrm>
                <a:off x="6003720" y="3071520"/>
                <a:ext cx="129960" cy="28980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Rectangle 27"/>
              <p:cNvSpPr/>
              <p:nvPr/>
            </p:nvSpPr>
            <p:spPr>
              <a:xfrm>
                <a:off x="6071760" y="2786040"/>
                <a:ext cx="32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Arc 26"/>
              <p:cNvSpPr/>
              <p:nvPr/>
            </p:nvSpPr>
            <p:spPr>
              <a:xfrm>
                <a:off x="6048360" y="3171600"/>
                <a:ext cx="72720" cy="21528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1" name=""/>
              <p:cNvGrpSpPr/>
              <p:nvPr/>
            </p:nvGrpSpPr>
            <p:grpSpPr>
              <a:xfrm>
                <a:off x="5829120" y="2786040"/>
                <a:ext cx="599760" cy="600480"/>
                <a:chOff x="5829120" y="2786040"/>
                <a:chExt cx="599760" cy="600480"/>
              </a:xfrm>
            </p:grpSpPr>
            <p:sp>
              <p:nvSpPr>
                <p:cNvPr id="1042" name="Line 24"/>
                <p:cNvSpPr/>
                <p:nvPr/>
              </p:nvSpPr>
              <p:spPr>
                <a:xfrm flipV="1">
                  <a:off x="5829480" y="2786040"/>
                  <a:ext cx="599400" cy="60048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 txBox="1"/>
                <p:nvPr/>
              </p:nvSpPr>
              <p:spPr>
                <a:xfrm rot="10800000">
                  <a:off x="5829120" y="2786040"/>
                  <a:ext cx="599400" cy="60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4" name="组合 1"/>
            <p:cNvGrpSpPr/>
            <p:nvPr/>
          </p:nvGrpSpPr>
          <p:grpSpPr>
            <a:xfrm>
              <a:off x="5844600" y="1856880"/>
              <a:ext cx="730080" cy="1554480"/>
              <a:chOff x="5844600" y="1856880"/>
              <a:chExt cx="730080" cy="1554480"/>
            </a:xfrm>
          </p:grpSpPr>
          <p:grpSp>
            <p:nvGrpSpPr>
              <p:cNvPr id="1045" name=""/>
              <p:cNvGrpSpPr/>
              <p:nvPr/>
            </p:nvGrpSpPr>
            <p:grpSpPr>
              <a:xfrm>
                <a:off x="5844600" y="1856880"/>
                <a:ext cx="730080" cy="1505160"/>
                <a:chOff x="5844600" y="1856880"/>
                <a:chExt cx="730080" cy="1505160"/>
              </a:xfrm>
            </p:grpSpPr>
            <p:sp>
              <p:nvSpPr>
                <p:cNvPr id="1046" name="Line 18"/>
                <p:cNvSpPr/>
                <p:nvPr/>
              </p:nvSpPr>
              <p:spPr>
                <a:xfrm flipV="1">
                  <a:off x="5844960" y="1856880"/>
                  <a:ext cx="729720" cy="15051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 txBox="1"/>
                <p:nvPr/>
              </p:nvSpPr>
              <p:spPr>
                <a:xfrm rot="10800000">
                  <a:off x="5844600" y="1856880"/>
                  <a:ext cx="729720" cy="15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8" name="Rectangle 21"/>
              <p:cNvSpPr/>
              <p:nvPr/>
            </p:nvSpPr>
            <p:spPr>
              <a:xfrm>
                <a:off x="6183720" y="3043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9" name="右箭头 38"/>
          <p:cNvSpPr/>
          <p:nvPr/>
        </p:nvSpPr>
        <p:spPr>
          <a:xfrm>
            <a:off x="4508640" y="2500200"/>
            <a:ext cx="1073160" cy="28584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组合 10"/>
          <p:cNvGrpSpPr/>
          <p:nvPr/>
        </p:nvGrpSpPr>
        <p:grpSpPr>
          <a:xfrm>
            <a:off x="1620720" y="3675240"/>
            <a:ext cx="5926320" cy="2523600"/>
            <a:chOff x="1620720" y="3675240"/>
            <a:chExt cx="5926320" cy="2523600"/>
          </a:xfrm>
        </p:grpSpPr>
        <p:pic>
          <p:nvPicPr>
            <p:cNvPr id="1051" name="Picture 11" descr="E:\2017秋上·黄倩\其他\人\蜜蜂.gif蜜蜂"/>
            <p:cNvPicPr/>
            <p:nvPr/>
          </p:nvPicPr>
          <p:blipFill>
            <a:blip r:embed="rId8"/>
            <a:stretch/>
          </p:blipFill>
          <p:spPr>
            <a:xfrm>
              <a:off x="6553080" y="5103720"/>
              <a:ext cx="993960" cy="10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AutoShape 17"/>
            <p:cNvSpPr/>
            <p:nvPr/>
          </p:nvSpPr>
          <p:spPr>
            <a:xfrm>
              <a:off x="1620720" y="3675240"/>
              <a:ext cx="5357880" cy="1285920"/>
            </a:xfrm>
            <a:prstGeom prst="wedgeRoundRectCallout">
              <a:avLst>
                <a:gd name="adj1" fmla="val 38495"/>
                <a:gd name="adj2" fmla="val 70967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Text Box 12"/>
            <p:cNvSpPr/>
            <p:nvPr/>
          </p:nvSpPr>
          <p:spPr>
            <a:xfrm>
              <a:off x="3628440" y="3817800"/>
              <a:ext cx="143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还是不能准确地知道∠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比∠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大多少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5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5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65" name="Picture 2" descr="84"/>
          <p:cNvPicPr/>
          <p:nvPr/>
        </p:nvPicPr>
        <p:blipFill>
          <a:blip r:embed="rId8"/>
          <a:stretch/>
        </p:blipFill>
        <p:spPr>
          <a:xfrm>
            <a:off x="828720" y="3287880"/>
            <a:ext cx="3598920" cy="300024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21"/>
          <p:cNvSpPr/>
          <p:nvPr/>
        </p:nvSpPr>
        <p:spPr>
          <a:xfrm>
            <a:off x="395280" y="117360"/>
            <a:ext cx="310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自主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3"/>
          <p:cNvSpPr/>
          <p:nvPr/>
        </p:nvSpPr>
        <p:spPr>
          <a:xfrm>
            <a:off x="357120" y="56988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要准确测量一个角的大小，应该用一个合适的角作单位来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Box 3"/>
          <p:cNvSpPr/>
          <p:nvPr/>
        </p:nvSpPr>
        <p:spPr>
          <a:xfrm>
            <a:off x="285840" y="1712880"/>
            <a:ext cx="82868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人们将圆平均分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6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份，将其中一份所对的角作为度量角的单位，它的大小就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度，记作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11" descr="E:\2017秋上·黄倩\其他\人\蜜蜂.gif蜜蜂"/>
          <p:cNvPicPr/>
          <p:nvPr/>
        </p:nvPicPr>
        <p:blipFill>
          <a:blip r:embed="rId9"/>
          <a:stretch/>
        </p:blipFill>
        <p:spPr>
          <a:xfrm>
            <a:off x="6146640" y="4641840"/>
            <a:ext cx="993960" cy="1095480"/>
          </a:xfrm>
          <a:prstGeom prst="rect">
            <a:avLst/>
          </a:prstGeom>
          <a:ln w="0">
            <a:noFill/>
          </a:ln>
        </p:spPr>
      </p:pic>
      <p:sp>
        <p:nvSpPr>
          <p:cNvPr id="1070" name="Text Box 12"/>
          <p:cNvSpPr/>
          <p:nvPr/>
        </p:nvSpPr>
        <p:spPr>
          <a:xfrm>
            <a:off x="5181840" y="3735360"/>
            <a:ext cx="302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每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份所对的角的大小是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1°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AutoShape 17"/>
          <p:cNvSpPr/>
          <p:nvPr/>
        </p:nvSpPr>
        <p:spPr>
          <a:xfrm>
            <a:off x="4500720" y="3641760"/>
            <a:ext cx="4171680" cy="642960"/>
          </a:xfrm>
          <a:prstGeom prst="wedgeRoundRectCallout">
            <a:avLst>
              <a:gd name="adj1" fmla="val 5574"/>
              <a:gd name="adj2" fmla="val 817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Picture 1027" descr="量角器"/>
          <p:cNvPicPr/>
          <p:nvPr/>
        </p:nvPicPr>
        <p:blipFill>
          <a:blip r:embed="rId1"/>
          <a:stretch/>
        </p:blipFill>
        <p:spPr>
          <a:xfrm>
            <a:off x="658800" y="2036880"/>
            <a:ext cx="4913280" cy="2816280"/>
          </a:xfrm>
          <a:prstGeom prst="rect">
            <a:avLst/>
          </a:prstGeom>
          <a:ln w="0">
            <a:noFill/>
          </a:ln>
        </p:spPr>
      </p:pic>
      <p:sp>
        <p:nvSpPr>
          <p:cNvPr id="1073" name="TextBox 3"/>
          <p:cNvSpPr/>
          <p:nvPr/>
        </p:nvSpPr>
        <p:spPr>
          <a:xfrm>
            <a:off x="357120" y="64296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根据这一原理，人们制作了度量角的工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量角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Picture 11" descr="E:\2017秋上·黄倩\其他\人\蜜蜂.gif蜜蜂"/>
          <p:cNvPicPr/>
          <p:nvPr/>
        </p:nvPicPr>
        <p:blipFill>
          <a:blip r:embed="rId2"/>
          <a:stretch/>
        </p:blipFill>
        <p:spPr>
          <a:xfrm>
            <a:off x="6718320" y="4262400"/>
            <a:ext cx="993600" cy="1095480"/>
          </a:xfrm>
          <a:prstGeom prst="rect">
            <a:avLst/>
          </a:prstGeom>
          <a:ln w="0">
            <a:noFill/>
          </a:ln>
        </p:spPr>
      </p:pic>
      <p:sp>
        <p:nvSpPr>
          <p:cNvPr id="1075" name="Text Box 12"/>
          <p:cNvSpPr/>
          <p:nvPr/>
        </p:nvSpPr>
        <p:spPr>
          <a:xfrm>
            <a:off x="5929200" y="2690640"/>
            <a:ext cx="307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量角器是把半圆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成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18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等份制成的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AutoShape 17"/>
          <p:cNvSpPr/>
          <p:nvPr/>
        </p:nvSpPr>
        <p:spPr>
          <a:xfrm>
            <a:off x="5829480" y="2548080"/>
            <a:ext cx="2885760" cy="1214280"/>
          </a:xfrm>
          <a:prstGeom prst="wedgeRoundRectCallout">
            <a:avLst>
              <a:gd name="adj1" fmla="val 5574"/>
              <a:gd name="adj2" fmla="val 817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Oval 1028"/>
          <p:cNvSpPr/>
          <p:nvPr/>
        </p:nvSpPr>
        <p:spPr>
          <a:xfrm>
            <a:off x="3046320" y="4419720"/>
            <a:ext cx="117720" cy="108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Oval 1029"/>
          <p:cNvSpPr/>
          <p:nvPr/>
        </p:nvSpPr>
        <p:spPr>
          <a:xfrm>
            <a:off x="3046320" y="4400640"/>
            <a:ext cx="117720" cy="108000"/>
          </a:xfrm>
          <a:prstGeom prst="ellipse">
            <a:avLst/>
          </a:prstGeom>
          <a:solidFill>
            <a:srgbClr val="d9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Oval 1030"/>
          <p:cNvSpPr/>
          <p:nvPr/>
        </p:nvSpPr>
        <p:spPr>
          <a:xfrm>
            <a:off x="3046320" y="4406760"/>
            <a:ext cx="117720" cy="108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3122280" y="4535280"/>
            <a:ext cx="360" cy="409320"/>
            <a:chOff x="3122280" y="4535280"/>
            <a:chExt cx="360" cy="409320"/>
          </a:xfrm>
        </p:grpSpPr>
        <p:sp>
          <p:nvSpPr>
            <p:cNvPr id="1081" name="Line 1031"/>
            <p:cNvSpPr/>
            <p:nvPr/>
          </p:nvSpPr>
          <p:spPr>
            <a:xfrm flipV="1">
              <a:off x="3122640" y="4535280"/>
              <a:ext cx="0" cy="409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 txBox="1"/>
            <p:nvPr/>
          </p:nvSpPr>
          <p:spPr>
            <a:xfrm rot="10800000">
              <a:off x="3122280" y="4535280"/>
              <a:ext cx="360" cy="40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 Box 1032"/>
          <p:cNvSpPr/>
          <p:nvPr/>
        </p:nvSpPr>
        <p:spPr>
          <a:xfrm>
            <a:off x="2533680" y="4873680"/>
            <a:ext cx="14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心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769680" y="4476240"/>
            <a:ext cx="4677120" cy="19080"/>
            <a:chOff x="769680" y="4476240"/>
            <a:chExt cx="4677120" cy="19080"/>
          </a:xfrm>
        </p:grpSpPr>
        <p:sp>
          <p:nvSpPr>
            <p:cNvPr id="1085" name="Line 1033"/>
            <p:cNvSpPr/>
            <p:nvPr/>
          </p:nvSpPr>
          <p:spPr>
            <a:xfrm flipV="1">
              <a:off x="770040" y="4476240"/>
              <a:ext cx="4676760" cy="19080"/>
            </a:xfrm>
            <a:prstGeom prst="line">
              <a:avLst/>
            </a:prstGeom>
            <a:ln w="316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 txBox="1"/>
            <p:nvPr/>
          </p:nvSpPr>
          <p:spPr>
            <a:xfrm rot="10800000">
              <a:off x="769680" y="4476240"/>
              <a:ext cx="4676760" cy="1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4627080" y="4476600"/>
            <a:ext cx="360" cy="976320"/>
            <a:chOff x="4627080" y="4476600"/>
            <a:chExt cx="360" cy="976320"/>
          </a:xfrm>
        </p:grpSpPr>
        <p:sp>
          <p:nvSpPr>
            <p:cNvPr id="1088" name="Line 1034"/>
            <p:cNvSpPr/>
            <p:nvPr/>
          </p:nvSpPr>
          <p:spPr>
            <a:xfrm flipV="1">
              <a:off x="4627440" y="4476600"/>
              <a:ext cx="0" cy="976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 rot="10800000">
              <a:off x="4627080" y="4476600"/>
              <a:ext cx="360" cy="9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Text Box 1035"/>
          <p:cNvSpPr/>
          <p:nvPr/>
        </p:nvSpPr>
        <p:spPr>
          <a:xfrm>
            <a:off x="3801960" y="535932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度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1720440" y="3502080"/>
            <a:ext cx="360" cy="2241360"/>
            <a:chOff x="1720440" y="3502080"/>
            <a:chExt cx="360" cy="2241360"/>
          </a:xfrm>
        </p:grpSpPr>
        <p:sp>
          <p:nvSpPr>
            <p:cNvPr id="1092" name="Line 1037"/>
            <p:cNvSpPr/>
            <p:nvPr/>
          </p:nvSpPr>
          <p:spPr>
            <a:xfrm flipV="1">
              <a:off x="1720800" y="3502080"/>
              <a:ext cx="0" cy="2241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 txBox="1"/>
            <p:nvPr/>
          </p:nvSpPr>
          <p:spPr>
            <a:xfrm rot="10800000">
              <a:off x="1720440" y="3502080"/>
              <a:ext cx="360" cy="224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Text Box 1038"/>
          <p:cNvSpPr/>
          <p:nvPr/>
        </p:nvSpPr>
        <p:spPr>
          <a:xfrm>
            <a:off x="1058760" y="5686560"/>
            <a:ext cx="15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刻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655560" y="2571840"/>
            <a:ext cx="590760" cy="419040"/>
            <a:chOff x="655560" y="2571840"/>
            <a:chExt cx="590760" cy="419040"/>
          </a:xfrm>
        </p:grpSpPr>
        <p:sp>
          <p:nvSpPr>
            <p:cNvPr id="1096" name="Line 1040"/>
            <p:cNvSpPr/>
            <p:nvPr/>
          </p:nvSpPr>
          <p:spPr>
            <a:xfrm>
              <a:off x="655560" y="2571840"/>
              <a:ext cx="590760" cy="419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 txBox="1"/>
            <p:nvPr/>
          </p:nvSpPr>
          <p:spPr>
            <a:xfrm>
              <a:off x="655560" y="2571840"/>
              <a:ext cx="590760" cy="41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8" name="Text Box 1041"/>
          <p:cNvSpPr/>
          <p:nvPr/>
        </p:nvSpPr>
        <p:spPr>
          <a:xfrm>
            <a:off x="212760" y="2116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刻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807840" y="4476240"/>
            <a:ext cx="4677120" cy="19080"/>
            <a:chOff x="807840" y="4476240"/>
            <a:chExt cx="4677120" cy="19080"/>
          </a:xfrm>
        </p:grpSpPr>
        <p:sp>
          <p:nvSpPr>
            <p:cNvPr id="1100" name="Line 1045"/>
            <p:cNvSpPr/>
            <p:nvPr/>
          </p:nvSpPr>
          <p:spPr>
            <a:xfrm flipV="1">
              <a:off x="808200" y="4476240"/>
              <a:ext cx="4676760" cy="19080"/>
            </a:xfrm>
            <a:prstGeom prst="line">
              <a:avLst/>
            </a:prstGeom>
            <a:ln w="316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 txBox="1"/>
            <p:nvPr/>
          </p:nvSpPr>
          <p:spPr>
            <a:xfrm rot="10800000">
              <a:off x="807840" y="4476240"/>
              <a:ext cx="4676760" cy="1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779040" y="4476240"/>
            <a:ext cx="4677120" cy="19080"/>
            <a:chOff x="779040" y="4476240"/>
            <a:chExt cx="4677120" cy="19080"/>
          </a:xfrm>
        </p:grpSpPr>
        <p:sp>
          <p:nvSpPr>
            <p:cNvPr id="1103" name="Line 1046"/>
            <p:cNvSpPr/>
            <p:nvPr/>
          </p:nvSpPr>
          <p:spPr>
            <a:xfrm flipV="1">
              <a:off x="779400" y="4476240"/>
              <a:ext cx="4676760" cy="1908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 txBox="1"/>
            <p:nvPr/>
          </p:nvSpPr>
          <p:spPr>
            <a:xfrm rot="10800000">
              <a:off x="779040" y="4476240"/>
              <a:ext cx="4676760" cy="1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WordArt 1049"/>
          <p:cNvSpPr txBox="1"/>
          <p:nvPr/>
        </p:nvSpPr>
        <p:spPr>
          <a:xfrm rot="5400000">
            <a:off x="4884480" y="439740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ccff"/>
                  </a:solidFill>
                  <a:round/>
                </a:ln>
                <a:solidFill>
                  <a:srgbClr val="cccc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ccccff"/>
                </a:solidFill>
                <a:round/>
              </a:ln>
              <a:solidFill>
                <a:srgbClr val="ccccff"/>
              </a:solidFill>
              <a:latin typeface="宋体"/>
              <a:ea typeface="宋体"/>
            </a:endParaRPr>
          </a:p>
        </p:txBody>
      </p:sp>
      <p:sp>
        <p:nvSpPr>
          <p:cNvPr id="1106" name="WordArt 1053"/>
          <p:cNvSpPr txBox="1"/>
          <p:nvPr/>
        </p:nvSpPr>
        <p:spPr>
          <a:xfrm rot="5400000">
            <a:off x="4884120" y="4392360"/>
            <a:ext cx="1144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07" name="WordArt 1054"/>
          <p:cNvSpPr txBox="1"/>
          <p:nvPr/>
        </p:nvSpPr>
        <p:spPr>
          <a:xfrm rot="5400000">
            <a:off x="4884120" y="4392360"/>
            <a:ext cx="1144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ccff"/>
                  </a:solidFill>
                  <a:round/>
                </a:ln>
                <a:solidFill>
                  <a:srgbClr val="cccc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ccccff"/>
                </a:solidFill>
                <a:round/>
              </a:ln>
              <a:solidFill>
                <a:srgbClr val="ccccff"/>
              </a:solidFill>
              <a:latin typeface="宋体"/>
              <a:ea typeface="宋体"/>
            </a:endParaRPr>
          </a:p>
        </p:txBody>
      </p:sp>
      <p:sp>
        <p:nvSpPr>
          <p:cNvPr id="1108" name="WordArt 1055"/>
          <p:cNvSpPr txBox="1"/>
          <p:nvPr/>
        </p:nvSpPr>
        <p:spPr>
          <a:xfrm rot="5400000">
            <a:off x="4884120" y="4392360"/>
            <a:ext cx="1144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09" name="WordArt 1056"/>
          <p:cNvSpPr txBox="1"/>
          <p:nvPr/>
        </p:nvSpPr>
        <p:spPr>
          <a:xfrm rot="5400000">
            <a:off x="4884120" y="4392360"/>
            <a:ext cx="1144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ccff"/>
                  </a:solidFill>
                  <a:round/>
                </a:ln>
                <a:solidFill>
                  <a:srgbClr val="cccc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ccccff"/>
                </a:solidFill>
                <a:round/>
              </a:ln>
              <a:solidFill>
                <a:srgbClr val="ccccff"/>
              </a:solidFill>
              <a:latin typeface="宋体"/>
              <a:ea typeface="宋体"/>
            </a:endParaRPr>
          </a:p>
        </p:txBody>
      </p:sp>
      <p:sp>
        <p:nvSpPr>
          <p:cNvPr id="1110" name="WordArt 1057"/>
          <p:cNvSpPr txBox="1"/>
          <p:nvPr/>
        </p:nvSpPr>
        <p:spPr>
          <a:xfrm rot="5400000">
            <a:off x="1031760" y="4406760"/>
            <a:ext cx="1141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111" name="WordArt 1058"/>
          <p:cNvSpPr txBox="1"/>
          <p:nvPr/>
        </p:nvSpPr>
        <p:spPr>
          <a:xfrm rot="5400000">
            <a:off x="1031760" y="4406760"/>
            <a:ext cx="1141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12" name="WordArt 1059"/>
          <p:cNvSpPr txBox="1"/>
          <p:nvPr/>
        </p:nvSpPr>
        <p:spPr>
          <a:xfrm rot="5400000">
            <a:off x="1031760" y="4406760"/>
            <a:ext cx="1141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113" name="WordArt 1060"/>
          <p:cNvSpPr txBox="1"/>
          <p:nvPr/>
        </p:nvSpPr>
        <p:spPr>
          <a:xfrm rot="5400000">
            <a:off x="1031760" y="4406760"/>
            <a:ext cx="1141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14" name="WordArt 1061"/>
          <p:cNvSpPr txBox="1"/>
          <p:nvPr/>
        </p:nvSpPr>
        <p:spPr>
          <a:xfrm rot="5400000">
            <a:off x="1031760" y="4406760"/>
            <a:ext cx="1141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115" name="WordArt 1063"/>
          <p:cNvSpPr txBox="1"/>
          <p:nvPr/>
        </p:nvSpPr>
        <p:spPr>
          <a:xfrm rot="5400000">
            <a:off x="1319760" y="4166640"/>
            <a:ext cx="2379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ccff"/>
                  </a:solidFill>
                  <a:round/>
                </a:ln>
                <a:solidFill>
                  <a:srgbClr val="cccc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ccccff"/>
                </a:solidFill>
                <a:round/>
              </a:ln>
              <a:solidFill>
                <a:srgbClr val="ccccff"/>
              </a:solidFill>
              <a:latin typeface="宋体"/>
              <a:ea typeface="宋体"/>
            </a:endParaRPr>
          </a:p>
        </p:txBody>
      </p:sp>
      <p:sp>
        <p:nvSpPr>
          <p:cNvPr id="1116" name="WordArt 1064"/>
          <p:cNvSpPr txBox="1"/>
          <p:nvPr/>
        </p:nvSpPr>
        <p:spPr>
          <a:xfrm rot="5400000">
            <a:off x="1319760" y="4166640"/>
            <a:ext cx="2379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17" name="WordArt 1065"/>
          <p:cNvSpPr txBox="1"/>
          <p:nvPr/>
        </p:nvSpPr>
        <p:spPr>
          <a:xfrm rot="5400000">
            <a:off x="1319760" y="4166640"/>
            <a:ext cx="2379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ccff"/>
                  </a:solidFill>
                  <a:round/>
                </a:ln>
                <a:solidFill>
                  <a:srgbClr val="cccc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ccccff"/>
                </a:solidFill>
                <a:round/>
              </a:ln>
              <a:solidFill>
                <a:srgbClr val="ccccff"/>
              </a:solidFill>
              <a:latin typeface="宋体"/>
              <a:ea typeface="宋体"/>
            </a:endParaRPr>
          </a:p>
        </p:txBody>
      </p:sp>
      <p:sp>
        <p:nvSpPr>
          <p:cNvPr id="1118" name="WordArt 1066"/>
          <p:cNvSpPr txBox="1"/>
          <p:nvPr/>
        </p:nvSpPr>
        <p:spPr>
          <a:xfrm rot="5400000">
            <a:off x="1319760" y="4166640"/>
            <a:ext cx="2379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19" name="WordArt 1067"/>
          <p:cNvSpPr txBox="1"/>
          <p:nvPr/>
        </p:nvSpPr>
        <p:spPr>
          <a:xfrm rot="5400000">
            <a:off x="1319760" y="4166640"/>
            <a:ext cx="2379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ccff"/>
                  </a:solidFill>
                  <a:round/>
                </a:ln>
                <a:solidFill>
                  <a:srgbClr val="cccc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ccccff"/>
                </a:solidFill>
                <a:round/>
              </a:ln>
              <a:solidFill>
                <a:srgbClr val="ccccff"/>
              </a:solidFill>
              <a:latin typeface="宋体"/>
              <a:ea typeface="宋体"/>
            </a:endParaRPr>
          </a:p>
        </p:txBody>
      </p:sp>
      <p:sp>
        <p:nvSpPr>
          <p:cNvPr id="1120" name="WordArt 1068"/>
          <p:cNvSpPr txBox="1"/>
          <p:nvPr/>
        </p:nvSpPr>
        <p:spPr>
          <a:xfrm rot="5400000">
            <a:off x="5022000" y="439200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121" name="WordArt 1069"/>
          <p:cNvSpPr txBox="1"/>
          <p:nvPr/>
        </p:nvSpPr>
        <p:spPr>
          <a:xfrm rot="5400000">
            <a:off x="5022000" y="439200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22" name="WordArt 1070"/>
          <p:cNvSpPr txBox="1"/>
          <p:nvPr/>
        </p:nvSpPr>
        <p:spPr>
          <a:xfrm rot="5400000">
            <a:off x="5018040" y="4392720"/>
            <a:ext cx="23832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123" name="WordArt 1071"/>
          <p:cNvSpPr txBox="1"/>
          <p:nvPr/>
        </p:nvSpPr>
        <p:spPr>
          <a:xfrm rot="5400000">
            <a:off x="5022000" y="439200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24" name="WordArt 1072"/>
          <p:cNvSpPr txBox="1"/>
          <p:nvPr/>
        </p:nvSpPr>
        <p:spPr>
          <a:xfrm rot="5400000">
            <a:off x="5022000" y="439200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grpSp>
        <p:nvGrpSpPr>
          <p:cNvPr id="1125" name="Group 42"/>
          <p:cNvGrpSpPr/>
          <p:nvPr/>
        </p:nvGrpSpPr>
        <p:grpSpPr>
          <a:xfrm>
            <a:off x="807840" y="2143080"/>
            <a:ext cx="4607280" cy="2313000"/>
            <a:chOff x="807840" y="2143080"/>
            <a:chExt cx="4607280" cy="2313000"/>
          </a:xfrm>
        </p:grpSpPr>
        <p:sp>
          <p:nvSpPr>
            <p:cNvPr id="1126" name="Arc 43"/>
            <p:cNvSpPr/>
            <p:nvPr/>
          </p:nvSpPr>
          <p:spPr>
            <a:xfrm>
              <a:off x="2967840" y="2143080"/>
              <a:ext cx="2447280" cy="2301120"/>
            </a:xfrm>
            <a:custGeom>
              <a:avLst/>
              <a:gdLst/>
              <a:ahLst/>
              <a:rect l="l" t="t" r="r" b="b"/>
              <a:pathLst>
                <a:path fill="none" w="21600" h="21581">
                  <a:moveTo>
                    <a:pt x="911" y="0"/>
                  </a:moveTo>
                  <a:cubicBezTo>
                    <a:pt x="12476" y="488"/>
                    <a:pt x="21600" y="10006"/>
                    <a:pt x="21600" y="21581"/>
                  </a:cubicBezTo>
                </a:path>
                <a:path stroke="0" w="21600" h="21581">
                  <a:moveTo>
                    <a:pt x="911" y="0"/>
                  </a:moveTo>
                  <a:cubicBezTo>
                    <a:pt x="12476" y="488"/>
                    <a:pt x="21600" y="10006"/>
                    <a:pt x="21600" y="21581"/>
                  </a:cubicBezTo>
                  <a:lnTo>
                    <a:pt x="0" y="21581"/>
                  </a:lnTo>
                  <a:close/>
                </a:path>
              </a:pathLst>
            </a:cu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Arc 44"/>
            <p:cNvSpPr/>
            <p:nvPr/>
          </p:nvSpPr>
          <p:spPr>
            <a:xfrm flipH="1">
              <a:off x="807480" y="2143080"/>
              <a:ext cx="2324520" cy="2313000"/>
            </a:xfrm>
            <a:custGeom>
              <a:avLst/>
              <a:gdLst/>
              <a:ahLst/>
              <a:rect l="l" t="t" r="r" b="b"/>
              <a:pathLst>
                <a:path fill="none" w="22505" h="21697">
                  <a:moveTo>
                    <a:pt x="0" y="18"/>
                  </a:moveTo>
                  <a:cubicBezTo>
                    <a:pt x="301" y="6"/>
                    <a:pt x="603" y="-1"/>
                    <a:pt x="905" y="0"/>
                  </a:cubicBezTo>
                  <a:cubicBezTo>
                    <a:pt x="12834" y="0"/>
                    <a:pt x="22505" y="9670"/>
                    <a:pt x="22505" y="21600"/>
                  </a:cubicBezTo>
                  <a:cubicBezTo>
                    <a:pt x="22505" y="21632"/>
                    <a:pt x="22504" y="21664"/>
                    <a:pt x="22504" y="21697"/>
                  </a:cubicBezTo>
                </a:path>
                <a:path stroke="0" w="22505" h="21697">
                  <a:moveTo>
                    <a:pt x="0" y="18"/>
                  </a:moveTo>
                  <a:cubicBezTo>
                    <a:pt x="301" y="6"/>
                    <a:pt x="603" y="-1"/>
                    <a:pt x="905" y="0"/>
                  </a:cubicBezTo>
                  <a:cubicBezTo>
                    <a:pt x="12834" y="0"/>
                    <a:pt x="22505" y="9670"/>
                    <a:pt x="22505" y="21600"/>
                  </a:cubicBezTo>
                  <a:cubicBezTo>
                    <a:pt x="22505" y="21632"/>
                    <a:pt x="22504" y="21664"/>
                    <a:pt x="22504" y="21697"/>
                  </a:cubicBezTo>
                  <a:lnTo>
                    <a:pt x="905" y="21600"/>
                  </a:lnTo>
                  <a:close/>
                </a:path>
              </a:pathLst>
            </a:cu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Group 45"/>
          <p:cNvGrpSpPr/>
          <p:nvPr/>
        </p:nvGrpSpPr>
        <p:grpSpPr>
          <a:xfrm>
            <a:off x="1405080" y="2784600"/>
            <a:ext cx="3455640" cy="1655640"/>
            <a:chOff x="1405080" y="2784600"/>
            <a:chExt cx="3455640" cy="1655640"/>
          </a:xfrm>
        </p:grpSpPr>
        <p:sp>
          <p:nvSpPr>
            <p:cNvPr id="1129" name="Arc 46"/>
            <p:cNvSpPr/>
            <p:nvPr/>
          </p:nvSpPr>
          <p:spPr>
            <a:xfrm>
              <a:off x="3025080" y="2784600"/>
              <a:ext cx="1835640" cy="1647000"/>
            </a:xfrm>
            <a:custGeom>
              <a:avLst/>
              <a:gdLst/>
              <a:ahLst/>
              <a:rect l="l" t="t" r="r" b="b"/>
              <a:pathLst>
                <a:path fill="none" w="21600" h="21581">
                  <a:moveTo>
                    <a:pt x="911" y="0"/>
                  </a:moveTo>
                  <a:cubicBezTo>
                    <a:pt x="12476" y="488"/>
                    <a:pt x="21600" y="10006"/>
                    <a:pt x="21600" y="21581"/>
                  </a:cubicBezTo>
                </a:path>
                <a:path stroke="0" w="21600" h="21581">
                  <a:moveTo>
                    <a:pt x="911" y="0"/>
                  </a:moveTo>
                  <a:cubicBezTo>
                    <a:pt x="12476" y="488"/>
                    <a:pt x="21600" y="10006"/>
                    <a:pt x="21600" y="21581"/>
                  </a:cubicBezTo>
                  <a:lnTo>
                    <a:pt x="0" y="21581"/>
                  </a:lnTo>
                  <a:close/>
                </a:path>
              </a:pathLst>
            </a:cu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Arc 47"/>
            <p:cNvSpPr/>
            <p:nvPr/>
          </p:nvSpPr>
          <p:spPr>
            <a:xfrm flipH="1">
              <a:off x="1405080" y="2784600"/>
              <a:ext cx="1743840" cy="1655640"/>
            </a:xfrm>
            <a:custGeom>
              <a:avLst/>
              <a:gdLst/>
              <a:ahLst/>
              <a:rect l="l" t="t" r="r" b="b"/>
              <a:pathLst>
                <a:path fill="none" w="22505" h="21697">
                  <a:moveTo>
                    <a:pt x="0" y="18"/>
                  </a:moveTo>
                  <a:cubicBezTo>
                    <a:pt x="301" y="6"/>
                    <a:pt x="603" y="-1"/>
                    <a:pt x="905" y="0"/>
                  </a:cubicBezTo>
                  <a:cubicBezTo>
                    <a:pt x="12834" y="0"/>
                    <a:pt x="22505" y="9670"/>
                    <a:pt x="22505" y="21600"/>
                  </a:cubicBezTo>
                  <a:cubicBezTo>
                    <a:pt x="22505" y="21632"/>
                    <a:pt x="22504" y="21664"/>
                    <a:pt x="22504" y="21697"/>
                  </a:cubicBezTo>
                </a:path>
                <a:path stroke="0" w="22505" h="21697">
                  <a:moveTo>
                    <a:pt x="0" y="18"/>
                  </a:moveTo>
                  <a:cubicBezTo>
                    <a:pt x="301" y="6"/>
                    <a:pt x="603" y="-1"/>
                    <a:pt x="905" y="0"/>
                  </a:cubicBezTo>
                  <a:cubicBezTo>
                    <a:pt x="12834" y="0"/>
                    <a:pt x="22505" y="9670"/>
                    <a:pt x="22505" y="21600"/>
                  </a:cubicBezTo>
                  <a:cubicBezTo>
                    <a:pt x="22505" y="21632"/>
                    <a:pt x="22504" y="21664"/>
                    <a:pt x="22504" y="21697"/>
                  </a:cubicBezTo>
                  <a:lnTo>
                    <a:pt x="905" y="21600"/>
                  </a:lnTo>
                  <a:close/>
                </a:path>
              </a:pathLst>
            </a:cu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"/>
                            </p:stCondLst>
                            <p:childTnLst>
                              <p:par>
                                <p:cTn id="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"/>
                            </p:stCondLst>
                            <p:childTnLst>
                              <p:par>
                                <p:cTn id="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"/>
                            </p:stCondLst>
                            <p:childTnLst>
                              <p:par>
                                <p:cTn id="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"/>
                            </p:stCondLst>
                            <p:childTnLst>
                              <p:par>
                                <p:cTn id="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"/>
                            </p:stCondLst>
                            <p:childTnLst>
                              <p:par>
                                <p:cTn id="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"/>
                            </p:stCondLst>
                            <p:childTnLst>
                              <p:par>
                                <p:cTn id="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"/>
                            </p:stCondLst>
                            <p:childTnLst>
                              <p:par>
                                <p:cTn id="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"/>
                            </p:stCondLst>
                            <p:childTnLst>
                              <p:par>
                                <p:cTn id="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"/>
                            </p:stCondLst>
                            <p:childTnLst>
                              <p:par>
                                <p:cTn id="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1"/>
                            </p:stCondLst>
                            <p:childTnLst>
                              <p:par>
                                <p:cTn id="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2"/>
                            </p:stCondLst>
                            <p:childTnLst>
                              <p:par>
                                <p:cTn id="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"/>
                            </p:stCondLst>
                            <p:childTnLst>
                              <p:par>
                                <p:cTn id="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356760" y="2930400"/>
            <a:ext cx="864396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量角的步骤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步：点重合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量角器的中心与角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顶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步：线重合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量角器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刻度线与角的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步：读准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的另一边所对的量角器上的刻度，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这个角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度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13" descr="ljq4"/>
          <p:cNvPicPr/>
          <p:nvPr/>
        </p:nvPicPr>
        <p:blipFill>
          <a:blip r:embed="rId1"/>
          <a:stretch/>
        </p:blipFill>
        <p:spPr>
          <a:xfrm>
            <a:off x="2286000" y="1201680"/>
            <a:ext cx="2670120" cy="1798560"/>
          </a:xfrm>
          <a:prstGeom prst="rect">
            <a:avLst/>
          </a:prstGeom>
          <a:ln w="0">
            <a:noFill/>
          </a:ln>
        </p:spPr>
      </p:pic>
      <p:grpSp>
        <p:nvGrpSpPr>
          <p:cNvPr id="1133" name="Group 22"/>
          <p:cNvGrpSpPr/>
          <p:nvPr/>
        </p:nvGrpSpPr>
        <p:grpSpPr>
          <a:xfrm>
            <a:off x="5508720" y="1625040"/>
            <a:ext cx="1800000" cy="902520"/>
            <a:chOff x="5508720" y="1625040"/>
            <a:chExt cx="1800000" cy="902520"/>
          </a:xfrm>
        </p:grpSpPr>
        <p:grpSp>
          <p:nvGrpSpPr>
            <p:cNvPr id="1134" name=""/>
            <p:cNvGrpSpPr/>
            <p:nvPr/>
          </p:nvGrpSpPr>
          <p:grpSpPr>
            <a:xfrm>
              <a:off x="5508720" y="2527200"/>
              <a:ext cx="1800000" cy="360"/>
              <a:chOff x="5508720" y="2527200"/>
              <a:chExt cx="1800000" cy="360"/>
            </a:xfrm>
          </p:grpSpPr>
          <p:sp>
            <p:nvSpPr>
              <p:cNvPr id="1135" name="Line 23"/>
              <p:cNvSpPr/>
              <p:nvPr/>
            </p:nvSpPr>
            <p:spPr>
              <a:xfrm>
                <a:off x="5508720" y="2527200"/>
                <a:ext cx="180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 txBox="1"/>
              <p:nvPr/>
            </p:nvSpPr>
            <p:spPr>
              <a:xfrm>
                <a:off x="5508720" y="2527200"/>
                <a:ext cx="180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5518080" y="1625040"/>
              <a:ext cx="1559160" cy="900360"/>
              <a:chOff x="5518080" y="1625040"/>
              <a:chExt cx="1559160" cy="900360"/>
            </a:xfrm>
          </p:grpSpPr>
          <p:sp>
            <p:nvSpPr>
              <p:cNvPr id="1138" name="Line 24"/>
              <p:cNvSpPr/>
              <p:nvPr/>
            </p:nvSpPr>
            <p:spPr>
              <a:xfrm flipV="1">
                <a:off x="5518080" y="1625040"/>
                <a:ext cx="1559160" cy="90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 txBox="1"/>
              <p:nvPr/>
            </p:nvSpPr>
            <p:spPr>
              <a:xfrm rot="19800000">
                <a:off x="5397480" y="2074680"/>
                <a:ext cx="180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Freeform 25"/>
            <p:cNvSpPr/>
            <p:nvPr/>
          </p:nvSpPr>
          <p:spPr>
            <a:xfrm>
              <a:off x="5869080" y="2320920"/>
              <a:ext cx="71280" cy="205920"/>
            </a:xfrm>
            <a:custGeom>
              <a:avLst/>
              <a:gdLst/>
              <a:ahLst/>
              <a:rect l="l" t="t" r="r" b="b"/>
              <a:pathLst>
                <a:path w="105" h="136">
                  <a:moveTo>
                    <a:pt x="0" y="0"/>
                  </a:moveTo>
                  <a:cubicBezTo>
                    <a:pt x="37" y="11"/>
                    <a:pt x="75" y="23"/>
                    <a:pt x="90" y="46"/>
                  </a:cubicBezTo>
                  <a:cubicBezTo>
                    <a:pt x="105" y="69"/>
                    <a:pt x="97" y="102"/>
                    <a:pt x="90" y="136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Rectangle 21"/>
          <p:cNvSpPr/>
          <p:nvPr/>
        </p:nvSpPr>
        <p:spPr>
          <a:xfrm>
            <a:off x="5898600" y="214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3"/>
          <p:cNvSpPr/>
          <p:nvPr/>
        </p:nvSpPr>
        <p:spPr>
          <a:xfrm>
            <a:off x="1003320" y="644400"/>
            <a:ext cx="86439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怎样用量角器量出下图中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的度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八边形 7"/>
          <p:cNvSpPr/>
          <p:nvPr/>
        </p:nvSpPr>
        <p:spPr>
          <a:xfrm>
            <a:off x="385920" y="70812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96296E-006 L 0.20851 2.96296E-006 E">
                                      <p:cBhvr>
                                        <p:cTn id="99" dur="2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TextBox 3"/>
          <p:cNvSpPr/>
          <p:nvPr/>
        </p:nvSpPr>
        <p:spPr>
          <a:xfrm>
            <a:off x="214200" y="855720"/>
            <a:ext cx="8786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量出下面两个角的度数，并比较它们的大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Box 3"/>
          <p:cNvSpPr/>
          <p:nvPr/>
        </p:nvSpPr>
        <p:spPr>
          <a:xfrm>
            <a:off x="142920" y="3284640"/>
            <a:ext cx="3500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Box 3"/>
          <p:cNvSpPr/>
          <p:nvPr/>
        </p:nvSpPr>
        <p:spPr>
          <a:xfrm>
            <a:off x="0" y="4284720"/>
            <a:ext cx="93283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角的大小与角两边的长短没有关系，角的大小要看角的两条边张开的大小，张开越大，角越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Freeform 11"/>
          <p:cNvSpPr/>
          <p:nvPr/>
        </p:nvSpPr>
        <p:spPr>
          <a:xfrm>
            <a:off x="1500120" y="2281320"/>
            <a:ext cx="1114560" cy="885600"/>
          </a:xfrm>
          <a:custGeom>
            <a:avLst/>
            <a:gdLst/>
            <a:ahLst/>
            <a:rect l="l" t="t" r="r" b="b"/>
            <a:pathLst>
              <a:path w="702" h="558">
                <a:moveTo>
                  <a:pt x="312" y="0"/>
                </a:moveTo>
                <a:lnTo>
                  <a:pt x="0" y="558"/>
                </a:lnTo>
                <a:lnTo>
                  <a:pt x="702" y="552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Freeform 18"/>
          <p:cNvSpPr/>
          <p:nvPr/>
        </p:nvSpPr>
        <p:spPr>
          <a:xfrm>
            <a:off x="5586480" y="1355760"/>
            <a:ext cx="1949400" cy="1803240"/>
          </a:xfrm>
          <a:custGeom>
            <a:avLst/>
            <a:gdLst/>
            <a:ahLst/>
            <a:rect l="l" t="t" r="r" b="b"/>
            <a:pathLst>
              <a:path w="1228" h="1136">
                <a:moveTo>
                  <a:pt x="640" y="0"/>
                </a:moveTo>
                <a:lnTo>
                  <a:pt x="0" y="1136"/>
                </a:lnTo>
                <a:lnTo>
                  <a:pt x="1228" y="1136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Freeform 19"/>
          <p:cNvSpPr/>
          <p:nvPr/>
        </p:nvSpPr>
        <p:spPr>
          <a:xfrm>
            <a:off x="1643040" y="2884320"/>
            <a:ext cx="190440" cy="285840"/>
          </a:xfrm>
          <a:custGeom>
            <a:avLst/>
            <a:gdLst/>
            <a:ahLst/>
            <a:rect l="l" t="t" r="r" b="b"/>
            <a:pathLst>
              <a:path w="120" h="180">
                <a:moveTo>
                  <a:pt x="0" y="0"/>
                </a:moveTo>
                <a:cubicBezTo>
                  <a:pt x="12" y="4"/>
                  <a:pt x="25" y="5"/>
                  <a:pt x="36" y="12"/>
                </a:cubicBezTo>
                <a:cubicBezTo>
                  <a:pt x="48" y="20"/>
                  <a:pt x="72" y="36"/>
                  <a:pt x="72" y="36"/>
                </a:cubicBezTo>
                <a:cubicBezTo>
                  <a:pt x="83" y="68"/>
                  <a:pt x="103" y="93"/>
                  <a:pt x="114" y="126"/>
                </a:cubicBezTo>
                <a:cubicBezTo>
                  <a:pt x="120" y="143"/>
                  <a:pt x="114" y="162"/>
                  <a:pt x="114" y="18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Freeform 20"/>
          <p:cNvSpPr/>
          <p:nvPr/>
        </p:nvSpPr>
        <p:spPr>
          <a:xfrm>
            <a:off x="5748480" y="2855880"/>
            <a:ext cx="180720" cy="295200"/>
          </a:xfrm>
          <a:custGeom>
            <a:avLst/>
            <a:gdLst/>
            <a:ahLst/>
            <a:rect l="l" t="t" r="r" b="b"/>
            <a:pathLst>
              <a:path w="114" h="186">
                <a:moveTo>
                  <a:pt x="0" y="0"/>
                </a:moveTo>
                <a:cubicBezTo>
                  <a:pt x="65" y="22"/>
                  <a:pt x="12" y="10"/>
                  <a:pt x="60" y="42"/>
                </a:cubicBezTo>
                <a:cubicBezTo>
                  <a:pt x="71" y="74"/>
                  <a:pt x="91" y="99"/>
                  <a:pt x="102" y="132"/>
                </a:cubicBezTo>
                <a:cubicBezTo>
                  <a:pt x="108" y="149"/>
                  <a:pt x="114" y="186"/>
                  <a:pt x="114" y="186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52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54" name="椭圆 6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5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6" name="椭圆 8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7" name="椭圆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8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9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0" name="圆角矩形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1" name="圆角矩形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2" name="Rectangle 64"/>
          <p:cNvSpPr/>
          <p:nvPr/>
        </p:nvSpPr>
        <p:spPr>
          <a:xfrm>
            <a:off x="585720" y="219240"/>
            <a:ext cx="2373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文本框 99"/>
          <p:cNvSpPr/>
          <p:nvPr/>
        </p:nvSpPr>
        <p:spPr>
          <a:xfrm>
            <a:off x="309600" y="78264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求出下面的角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文本框 100"/>
          <p:cNvSpPr/>
          <p:nvPr/>
        </p:nvSpPr>
        <p:spPr>
          <a:xfrm>
            <a:off x="279360" y="12762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=6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你能说出其它三个角的度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109"/>
          <p:cNvSpPr/>
          <p:nvPr/>
        </p:nvSpPr>
        <p:spPr>
          <a:xfrm>
            <a:off x="812880" y="356220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=5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？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组合 27"/>
          <p:cNvGrpSpPr/>
          <p:nvPr/>
        </p:nvGrpSpPr>
        <p:grpSpPr>
          <a:xfrm>
            <a:off x="1620360" y="1989000"/>
            <a:ext cx="2161080" cy="1006560"/>
            <a:chOff x="1620360" y="1989000"/>
            <a:chExt cx="2161080" cy="1006560"/>
          </a:xfrm>
        </p:grpSpPr>
        <p:sp>
          <p:nvSpPr>
            <p:cNvPr id="1167" name="直接连接符 16"/>
            <p:cNvSpPr/>
            <p:nvPr/>
          </p:nvSpPr>
          <p:spPr>
            <a:xfrm flipH="1" flipV="1">
              <a:off x="1765440" y="1989000"/>
              <a:ext cx="2016000" cy="100656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直接连接符 17"/>
            <p:cNvSpPr/>
            <p:nvPr/>
          </p:nvSpPr>
          <p:spPr>
            <a:xfrm flipH="1">
              <a:off x="1620360" y="2101320"/>
              <a:ext cx="1868760" cy="85320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弧形 20"/>
            <p:cNvSpPr/>
            <p:nvPr/>
          </p:nvSpPr>
          <p:spPr>
            <a:xfrm rot="18120000">
              <a:off x="2411280" y="2203920"/>
              <a:ext cx="503640" cy="504000"/>
            </a:xfrm>
            <a:custGeom>
              <a:avLst/>
              <a:gdLst/>
              <a:ahLst/>
              <a:rect l="l" t="t" r="r" b="b"/>
              <a:pathLst>
                <a:path stroke="0" w="794" h="794">
                  <a:moveTo>
                    <a:pt x="396" y="0"/>
                  </a:moveTo>
                  <a:cubicBezTo>
                    <a:pt x="615" y="0"/>
                    <a:pt x="793" y="178"/>
                    <a:pt x="793" y="397"/>
                  </a:cubicBezTo>
                  <a:cubicBezTo>
                    <a:pt x="793" y="490"/>
                    <a:pt x="761" y="576"/>
                    <a:pt x="707" y="643"/>
                  </a:cubicBezTo>
                  <a:lnTo>
                    <a:pt x="397" y="397"/>
                  </a:lnTo>
                  <a:close/>
                </a:path>
                <a:path fill="none" w="794" h="794">
                  <a:moveTo>
                    <a:pt x="396" y="0"/>
                  </a:moveTo>
                  <a:cubicBezTo>
                    <a:pt x="615" y="0"/>
                    <a:pt x="793" y="178"/>
                    <a:pt x="793" y="397"/>
                  </a:cubicBezTo>
                  <a:cubicBezTo>
                    <a:pt x="793" y="490"/>
                    <a:pt x="761" y="576"/>
                    <a:pt x="707" y="643"/>
                  </a:cubicBezTo>
                </a:path>
              </a:pathLst>
            </a:custGeom>
            <a:noFill/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弧形 21"/>
            <p:cNvSpPr/>
            <p:nvPr/>
          </p:nvSpPr>
          <p:spPr>
            <a:xfrm rot="6960000">
              <a:off x="2466360" y="2187000"/>
              <a:ext cx="503640" cy="504000"/>
            </a:xfrm>
            <a:custGeom>
              <a:avLst/>
              <a:gdLst/>
              <a:ahLst/>
              <a:rect l="l" t="t" r="r" b="b"/>
              <a:pathLst>
                <a:path stroke="0" w="794" h="794">
                  <a:moveTo>
                    <a:pt x="433" y="1"/>
                  </a:moveTo>
                  <a:cubicBezTo>
                    <a:pt x="635" y="19"/>
                    <a:pt x="793" y="189"/>
                    <a:pt x="793" y="396"/>
                  </a:cubicBezTo>
                  <a:cubicBezTo>
                    <a:pt x="793" y="489"/>
                    <a:pt x="761" y="575"/>
                    <a:pt x="707" y="642"/>
                  </a:cubicBezTo>
                  <a:lnTo>
                    <a:pt x="397" y="397"/>
                  </a:lnTo>
                  <a:close/>
                </a:path>
                <a:path fill="none" w="794" h="794">
                  <a:moveTo>
                    <a:pt x="433" y="1"/>
                  </a:moveTo>
                  <a:cubicBezTo>
                    <a:pt x="635" y="19"/>
                    <a:pt x="793" y="189"/>
                    <a:pt x="793" y="396"/>
                  </a:cubicBezTo>
                  <a:cubicBezTo>
                    <a:pt x="793" y="489"/>
                    <a:pt x="761" y="575"/>
                    <a:pt x="707" y="642"/>
                  </a:cubicBezTo>
                </a:path>
              </a:pathLst>
            </a:custGeom>
            <a:noFill/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弧形 22"/>
            <p:cNvSpPr/>
            <p:nvPr/>
          </p:nvSpPr>
          <p:spPr>
            <a:xfrm rot="2940000">
              <a:off x="2616120" y="2196000"/>
              <a:ext cx="503640" cy="504000"/>
            </a:xfrm>
            <a:custGeom>
              <a:avLst/>
              <a:gdLst/>
              <a:ahLst/>
              <a:rect l="l" t="t" r="r" b="b"/>
              <a:pathLst>
                <a:path stroke="0" w="794" h="794">
                  <a:moveTo>
                    <a:pt x="433" y="1"/>
                  </a:moveTo>
                  <a:cubicBezTo>
                    <a:pt x="627" y="19"/>
                    <a:pt x="780" y="176"/>
                    <a:pt x="792" y="371"/>
                  </a:cubicBezTo>
                  <a:lnTo>
                    <a:pt x="397" y="397"/>
                  </a:lnTo>
                  <a:close/>
                </a:path>
                <a:path fill="none" w="794" h="794">
                  <a:moveTo>
                    <a:pt x="433" y="1"/>
                  </a:moveTo>
                  <a:cubicBezTo>
                    <a:pt x="627" y="19"/>
                    <a:pt x="780" y="176"/>
                    <a:pt x="792" y="371"/>
                  </a:cubicBezTo>
                </a:path>
              </a:pathLst>
            </a:custGeom>
            <a:noFill/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弧形 23"/>
            <p:cNvSpPr/>
            <p:nvPr/>
          </p:nvSpPr>
          <p:spPr>
            <a:xfrm flipH="1" rot="18660000">
              <a:off x="2303640" y="2171160"/>
              <a:ext cx="503640" cy="504000"/>
            </a:xfrm>
            <a:custGeom>
              <a:avLst/>
              <a:gdLst/>
              <a:ahLst/>
              <a:rect l="l" t="t" r="r" b="b"/>
              <a:pathLst>
                <a:path stroke="0" w="794" h="794">
                  <a:moveTo>
                    <a:pt x="433" y="1"/>
                  </a:moveTo>
                  <a:cubicBezTo>
                    <a:pt x="627" y="19"/>
                    <a:pt x="780" y="176"/>
                    <a:pt x="792" y="371"/>
                  </a:cubicBezTo>
                  <a:lnTo>
                    <a:pt x="397" y="397"/>
                  </a:lnTo>
                  <a:close/>
                </a:path>
                <a:path fill="none" w="794" h="794">
                  <a:moveTo>
                    <a:pt x="433" y="1"/>
                  </a:moveTo>
                  <a:cubicBezTo>
                    <a:pt x="627" y="19"/>
                    <a:pt x="780" y="176"/>
                    <a:pt x="792" y="371"/>
                  </a:cubicBezTo>
                </a:path>
              </a:pathLst>
            </a:custGeom>
            <a:noFill/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3" name="组合 26"/>
          <p:cNvGrpSpPr/>
          <p:nvPr/>
        </p:nvGrpSpPr>
        <p:grpSpPr>
          <a:xfrm>
            <a:off x="1182600" y="4437000"/>
            <a:ext cx="2170080" cy="1182600"/>
            <a:chOff x="1182600" y="4437000"/>
            <a:chExt cx="2170080" cy="1182600"/>
          </a:xfrm>
        </p:grpSpPr>
        <p:sp>
          <p:nvSpPr>
            <p:cNvPr id="1174" name="直接连接符 18"/>
            <p:cNvSpPr/>
            <p:nvPr/>
          </p:nvSpPr>
          <p:spPr>
            <a:xfrm flipH="1">
              <a:off x="1335600" y="4437000"/>
              <a:ext cx="1507680" cy="118260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直接连接符 19"/>
            <p:cNvSpPr/>
            <p:nvPr/>
          </p:nvSpPr>
          <p:spPr>
            <a:xfrm flipH="1">
              <a:off x="1182600" y="5172480"/>
              <a:ext cx="217008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弧形 24"/>
            <p:cNvSpPr/>
            <p:nvPr/>
          </p:nvSpPr>
          <p:spPr>
            <a:xfrm flipH="1">
              <a:off x="1616760" y="4939920"/>
              <a:ext cx="504000" cy="504360"/>
            </a:xfrm>
            <a:custGeom>
              <a:avLst/>
              <a:gdLst/>
              <a:ahLst/>
              <a:rect l="l" t="t" r="r" b="b"/>
              <a:pathLst>
                <a:path stroke="0" w="794" h="794">
                  <a:moveTo>
                    <a:pt x="71" y="169"/>
                  </a:moveTo>
                  <a:cubicBezTo>
                    <a:pt x="142" y="66"/>
                    <a:pt x="261" y="-1"/>
                    <a:pt x="396" y="-1"/>
                  </a:cubicBezTo>
                  <a:cubicBezTo>
                    <a:pt x="607" y="-1"/>
                    <a:pt x="779" y="163"/>
                    <a:pt x="792" y="371"/>
                  </a:cubicBezTo>
                  <a:lnTo>
                    <a:pt x="397" y="397"/>
                  </a:lnTo>
                  <a:close/>
                </a:path>
                <a:path fill="none" w="794" h="794">
                  <a:moveTo>
                    <a:pt x="71" y="169"/>
                  </a:moveTo>
                  <a:cubicBezTo>
                    <a:pt x="142" y="66"/>
                    <a:pt x="261" y="-1"/>
                    <a:pt x="396" y="-1"/>
                  </a:cubicBezTo>
                  <a:cubicBezTo>
                    <a:pt x="607" y="-1"/>
                    <a:pt x="779" y="163"/>
                    <a:pt x="792" y="371"/>
                  </a:cubicBezTo>
                </a:path>
              </a:pathLst>
            </a:custGeom>
            <a:noFill/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弧形 25"/>
            <p:cNvSpPr/>
            <p:nvPr/>
          </p:nvSpPr>
          <p:spPr>
            <a:xfrm rot="2940000">
              <a:off x="1778760" y="4807440"/>
              <a:ext cx="504000" cy="504000"/>
            </a:xfrm>
            <a:custGeom>
              <a:avLst/>
              <a:gdLst/>
              <a:ahLst/>
              <a:rect l="l" t="t" r="r" b="b"/>
              <a:pathLst>
                <a:path stroke="0" w="794" h="794">
                  <a:moveTo>
                    <a:pt x="433" y="1"/>
                  </a:moveTo>
                  <a:cubicBezTo>
                    <a:pt x="583" y="15"/>
                    <a:pt x="709" y="112"/>
                    <a:pt x="764" y="247"/>
                  </a:cubicBezTo>
                  <a:lnTo>
                    <a:pt x="397" y="397"/>
                  </a:lnTo>
                  <a:close/>
                </a:path>
                <a:path fill="none" w="794" h="794">
                  <a:moveTo>
                    <a:pt x="433" y="1"/>
                  </a:moveTo>
                  <a:cubicBezTo>
                    <a:pt x="583" y="15"/>
                    <a:pt x="709" y="112"/>
                    <a:pt x="764" y="247"/>
                  </a:cubicBezTo>
                </a:path>
              </a:pathLst>
            </a:custGeom>
            <a:noFill/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文本框 28"/>
          <p:cNvSpPr/>
          <p:nvPr/>
        </p:nvSpPr>
        <p:spPr>
          <a:xfrm>
            <a:off x="3149640" y="227952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文本框 29"/>
          <p:cNvSpPr/>
          <p:nvPr/>
        </p:nvSpPr>
        <p:spPr>
          <a:xfrm>
            <a:off x="2486160" y="183348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文本框 30"/>
          <p:cNvSpPr/>
          <p:nvPr/>
        </p:nvSpPr>
        <p:spPr>
          <a:xfrm>
            <a:off x="2039760" y="2247840"/>
            <a:ext cx="2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文本框 31"/>
          <p:cNvSpPr/>
          <p:nvPr/>
        </p:nvSpPr>
        <p:spPr>
          <a:xfrm>
            <a:off x="2581200" y="264492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文本框 32"/>
          <p:cNvSpPr/>
          <p:nvPr/>
        </p:nvSpPr>
        <p:spPr>
          <a:xfrm>
            <a:off x="2271600" y="480852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文本框 33"/>
          <p:cNvSpPr/>
          <p:nvPr/>
        </p:nvSpPr>
        <p:spPr>
          <a:xfrm>
            <a:off x="1609560" y="458136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文本框 34"/>
          <p:cNvSpPr/>
          <p:nvPr/>
        </p:nvSpPr>
        <p:spPr>
          <a:xfrm>
            <a:off x="3843360" y="2381400"/>
            <a:ext cx="49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= 12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°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∠3= 6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°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∠4=12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文本框 36"/>
          <p:cNvSpPr/>
          <p:nvPr/>
        </p:nvSpPr>
        <p:spPr>
          <a:xfrm>
            <a:off x="4525920" y="4803840"/>
            <a:ext cx="33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=13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8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8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97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Box 32"/>
          <p:cNvSpPr/>
          <p:nvPr/>
        </p:nvSpPr>
        <p:spPr>
          <a:xfrm>
            <a:off x="368280" y="1359000"/>
            <a:ext cx="84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度量角的工具是量角器，度是计量角的单位，用符号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来表示，量角时要做到点点重合，线边重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0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02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0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文本框 99"/>
          <p:cNvSpPr/>
          <p:nvPr/>
        </p:nvSpPr>
        <p:spPr>
          <a:xfrm>
            <a:off x="279360" y="695160"/>
            <a:ext cx="85536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填一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从一点引出两条射线，所组成的（        ）叫做（        ）。这两条（        ）叫做角的边，角通常用符号（        ）来表示。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角的两边叉开越大，角（        ）。角的大小与（        ）没有关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角的计量单位是（        ），用符号（        ）表示。角的大小用（        ）来测量。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角的大小与角的两边的（      ）没有关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量角时，量角器的中心与（      ）重合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刻度线与（          ）重合，角的另一条边所对的量角器上的刻度，就是这个角的（       ）。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文本框 2"/>
          <p:cNvSpPr/>
          <p:nvPr/>
        </p:nvSpPr>
        <p:spPr>
          <a:xfrm>
            <a:off x="4843440" y="12859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图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文本框 3"/>
          <p:cNvSpPr/>
          <p:nvPr/>
        </p:nvSpPr>
        <p:spPr>
          <a:xfrm>
            <a:off x="6986520" y="1271520"/>
            <a:ext cx="6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文本框 4"/>
          <p:cNvSpPr/>
          <p:nvPr/>
        </p:nvSpPr>
        <p:spPr>
          <a:xfrm>
            <a:off x="1278000" y="173196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文本框 6"/>
          <p:cNvSpPr/>
          <p:nvPr/>
        </p:nvSpPr>
        <p:spPr>
          <a:xfrm>
            <a:off x="6013440" y="173844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文本框 7"/>
          <p:cNvSpPr/>
          <p:nvPr/>
        </p:nvSpPr>
        <p:spPr>
          <a:xfrm>
            <a:off x="3892680" y="218124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越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文本框 8"/>
          <p:cNvSpPr/>
          <p:nvPr/>
        </p:nvSpPr>
        <p:spPr>
          <a:xfrm>
            <a:off x="7013520" y="218124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边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文本框 9"/>
          <p:cNvSpPr/>
          <p:nvPr/>
        </p:nvSpPr>
        <p:spPr>
          <a:xfrm>
            <a:off x="3195720" y="310824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文本框 10"/>
          <p:cNvSpPr/>
          <p:nvPr/>
        </p:nvSpPr>
        <p:spPr>
          <a:xfrm>
            <a:off x="5508720" y="3087720"/>
            <a:ext cx="87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文本框 12"/>
          <p:cNvSpPr/>
          <p:nvPr/>
        </p:nvSpPr>
        <p:spPr>
          <a:xfrm>
            <a:off x="892080" y="3562200"/>
            <a:ext cx="9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量角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文本框 14"/>
          <p:cNvSpPr/>
          <p:nvPr/>
        </p:nvSpPr>
        <p:spPr>
          <a:xfrm>
            <a:off x="3692520" y="4029120"/>
            <a:ext cx="98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边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文本框 15"/>
          <p:cNvSpPr/>
          <p:nvPr/>
        </p:nvSpPr>
        <p:spPr>
          <a:xfrm>
            <a:off x="3925800" y="4478400"/>
            <a:ext cx="9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顶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文本框 16"/>
          <p:cNvSpPr/>
          <p:nvPr/>
        </p:nvSpPr>
        <p:spPr>
          <a:xfrm>
            <a:off x="7207200" y="4479840"/>
            <a:ext cx="15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角的一条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文本框 17"/>
          <p:cNvSpPr/>
          <p:nvPr/>
        </p:nvSpPr>
        <p:spPr>
          <a:xfrm>
            <a:off x="7191360" y="4950000"/>
            <a:ext cx="9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度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06:00Z</dcterms:created>
  <dc:creator/>
  <dc:description/>
  <dc:language>en-US</dc:language>
  <cp:lastModifiedBy>万润仪器贸易公司</cp:lastModifiedBy>
  <dcterms:modified xsi:type="dcterms:W3CDTF">2020-08-21T08:54:29Z</dcterms:modified>
  <cp:revision>6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